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arrow.wav" ContentType="audio/x-wav"/>
  <Override PartName="/ppt/media/breez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D8A-DAA0-49B1-88D5-93EC1330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273-8588-477C-B17D-4A122A70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FFD-BB39-4240-A85A-57956B320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B24D-F0B2-4B9E-B913-25CF56D8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524-A01E-43DD-AF0F-4EFDEA7F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B4E-70EA-4712-B1A9-D35A9E7C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1AD-F0F3-45BB-8DAA-CE763E0B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5E6-FC0B-47D0-8041-E10C69A8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B4C-753F-4B29-926B-1E5949E7B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4C3-DF14-44A3-8B6D-55D1CF176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C94-2235-408C-A9BC-ECA53E3F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55A1-7534-4C9E-A8FA-F1B5B747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6C1-26E0-4FDB-9DAE-75F50F16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316-532E-4381-853B-23ED09CE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3CD-A2A3-4493-A477-DE444ED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646-D9C0-4DD4-98A6-A0856A5B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81D6-39C0-4A55-91CD-B799F4AD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6817-C573-4CD1-83FB-5E286ED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763A-9D6C-4F0E-9588-CB669D5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E7E6-0A03-4422-A4AF-CA488B95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A69B-60F6-44A3-BD9A-4D7735E7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609A-8A71-4A64-A299-EDC5A1DB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2EA-56A9-4111-9A37-931F7CD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85E-7A07-47D5-AA1C-82D19397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E00-F65A-4D71-AA29-235EFE8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8625-9F83-4DA7-8DEE-0A8F2A2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0DB5-B6ED-4A14-B186-5A6DAA4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54CD-CFC9-47CB-95C9-E356DAB5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9E9-CDA2-413C-ADFF-385063D5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062A-E491-48D7-874B-472B9AC1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36CE-3AED-4D3B-8CF9-6450DCDB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3A13-7313-4277-A9F8-C9668B8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62EA-FC0B-44A6-B9DC-87709F0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51ED-1358-4C8F-9F18-FAC9DCA3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F71-F0BE-4B6E-A7FC-8AC0C07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966E-8F50-4B2C-8CEA-CB9DD01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F816-52E9-47F4-8078-15719A7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F31E-EC81-4D51-9727-544F4106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2368-50B8-4A15-89FB-5786004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3170-B52D-4350-B03B-002611F3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2D25-3A58-4087-9E0D-FB8D0541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98A6B-D849-4EDA-AE9F-4BA347BA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19E-065A-40B2-8894-8451CE3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A0A-E7DC-4D09-B51D-AB09FF9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C5D-3585-4F02-9A04-A2916E5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3CF-0743-4371-BC14-85B25D1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109-4AD8-4A80-92A8-266E356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39B-529A-4C13-A5C2-6860A10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D66B-B7BB-41D5-BDE7-D91646684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651-0473-45E4-B0EA-D687D910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B5F-0FF4-478D-9CE5-33AD600C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Team Competitio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: The first team to write the correct answer gets to pick a group to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 may only pick groups of equal or smaller size until instructed otherw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ion is demanded, help your team dominate your fo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l.yimg.com/g/images/spaceball.gif"/>
          <p:cNvPicPr/>
          <p:nvPr/>
        </p:nvPicPr>
        <p:blipFill>
          <a:blip r:embed="rId1"/>
          <a:stretch/>
        </p:blipFill>
        <p:spPr>
          <a:xfrm>
            <a:off x="4138560" y="-1736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Video Question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2392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ype of Imperialism is it? Proof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happening in Afric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lonel Patterson’s job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settlement and the work force lik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the British wa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problems facing the settleme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y Europeans? Why Africa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6324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at 3:18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at drove European desires for Afric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ER: Nineteenth century European imperialism of Africa succeeded becau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8cc"/>
                </a:solidFill>
                <a:latin typeface="Arial Black"/>
              </a:rPr>
              <a:t>D. Reasons for European success</a:t>
            </a:r>
            <a:endParaRPr b="0" lang="en-US" sz="32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eapon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New Invention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road, Steam engine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akness of non-Western states: Lacked unity, wa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entralized government (competi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vickers%20MKI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1673"/>
          <p:cNvPicPr/>
          <p:nvPr/>
        </p:nvPicPr>
        <p:blipFill>
          <a:blip r:embed="rId2"/>
          <a:stretch/>
        </p:blipFill>
        <p:spPr>
          <a:xfrm>
            <a:off x="5686560" y="2743200"/>
            <a:ext cx="3457440" cy="15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8cc"/>
                </a:solidFill>
                <a:latin typeface="Arial Black"/>
              </a:rPr>
              <a:t>Explain the quote:</a:t>
            </a:r>
            <a:br>
              <a:rPr sz="4000"/>
            </a:br>
            <a:endParaRPr b="0" lang="en-US" sz="40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IMG_0813"/>
          <p:cNvPicPr/>
          <p:nvPr/>
        </p:nvPicPr>
        <p:blipFill>
          <a:blip r:embed="rId1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y7syo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Red= British Empire during Age of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pic>
        <p:nvPicPr>
          <p:cNvPr id="164" name="Picture 7" descr="The_British_Empire"/>
          <p:cNvPicPr/>
          <p:nvPr/>
        </p:nvPicPr>
        <p:blipFill>
          <a:blip r:embed="rId1"/>
          <a:stretch/>
        </p:blipFill>
        <p:spPr>
          <a:xfrm>
            <a:off x="380880" y="1824120"/>
            <a:ext cx="8382240" cy="472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ativ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Treatment of Loc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to follow and work or imprison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pse of Local Econom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farmers and Merchants put out of Business by Europ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d Relig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political leaders ki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ffec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Transportation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lroad created to help move go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grow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ans brought m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standard of liv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Medicines increase Health of 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of Nationalism inside colon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ed Govern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ite Man’s Burde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 the meaning of each stanza and write it alongs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se questions after you are done rea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overall message of the po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is was receiv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ill this impact the treatment of non-Wester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reation of Poe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man’s bur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by Kipling in England to Amer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762120"/>
            <a:ext cx="7391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up the White Man's burden-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atience to abid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veil the threat of terr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check the show of pride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open speech and simpl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hundred times made plai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eek another's prof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ork another's ga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Questions/prompt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6854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e three leaders of the Scientific Rev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developed the first written langu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Brewers called before this na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exact date of WW2’s st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nvented the printing pr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opic of the first chapter in the textboo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as the last Queen of Hawai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resident was shot in 1963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on the World Cup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ree Tom Cruise mov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SOAPS stan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strument does Mr. Kuenzi pl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Darwin and the “Burden”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60195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author’s poin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http://rds.yahoo.com/_ylt=A9ibyGZDtDZGOZwAI46jzbkF;_ylu=X3oDMTBsMW5yM3VoBHNlYwNwcm9mBHZ0aWQDSTA2Nl84OA--/SIG=13tigmh6t/EXP=1178076611/**http%3A/www.history.ucsb.edu/faculty/marcuse/classes/2c/images/1899WhiteMansBurden$Detroit200dpi300pxw.jpg"/>
          <p:cNvPicPr/>
          <p:nvPr/>
        </p:nvPicPr>
        <p:blipFill>
          <a:blip r:embed="rId1"/>
          <a:stretch/>
        </p:blipFill>
        <p:spPr>
          <a:xfrm>
            <a:off x="68580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1760" y="5791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message of this carto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http://rds.yahoo.com/_ylt=A9iby4B8tDZGAaUABVmjzbkF;_ylu=X3oDMTBsMW5yM3VoBHNlYwNwcm9mBHZ0aWQDSTA2Nl84OA--/SIG=12ec4k6s5/EXP=1178076668/**http%3A/www.ocf.berkeley.edu/~trisha/contemp/pics/civil.jpg"/>
          <p:cNvPicPr/>
          <p:nvPr/>
        </p:nvPicPr>
        <p:blipFill>
          <a:blip r:embed="rId1"/>
          <a:stretch/>
        </p:blipFill>
        <p:spPr>
          <a:xfrm>
            <a:off x="0" y="0"/>
            <a:ext cx="9136080" cy="579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hina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d no interest in European go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 to keep to their traditional 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d Trade 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had little to o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ium from India brought to Chi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y became unproductive and quality of life declin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banned its use and tra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did not lis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Opium Wars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ese confiscate and burn large shi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brings war boats and attac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Treaty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demanded the opening of China and free trade r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 had no choice but to ag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and will hold on to land rights in Hong Kong until 1997 (150 year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xer Rebellion against w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Japan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pt strict Feudal laws during 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s contact with the U.S. opened their eyes to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ive Industrialization and Technology spread throughout Jap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pt many of the Feudal ideas and herit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an Imperializing China and Ko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Movie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grpSp>
        <p:nvGrpSpPr>
          <p:cNvPr id="194" name="SmartArt Placeholder 10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5" name="Oval 26"/>
          <p:cNvSpPr/>
          <p:nvPr/>
        </p:nvSpPr>
        <p:spPr>
          <a:xfrm>
            <a:off x="152280" y="1143000"/>
            <a:ext cx="4876920" cy="4648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heres of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s to regain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7"/>
          <p:cNvSpPr/>
          <p:nvPr/>
        </p:nvSpPr>
        <p:spPr>
          <a:xfrm>
            <a:off x="4114800" y="1143000"/>
            <a:ext cx="5029200" cy="4648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its 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tary and Econom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izes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Empire of its 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4327560" y="323676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3809880" y="2514600"/>
            <a:ext cx="160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 establish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likes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2136600" y="58672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6099120" y="5867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Show that you know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a blank sheet of paper; write two diary entries (at least four senten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one as a Boxer in Chi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the other as a Japanese teenager witnessing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86800" y="-4261320"/>
            <a:ext cx="460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04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wo Lady Gaga song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han Hale served in what wa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types of c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square root of 16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Adam Sandler mov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shot Abraham Lincol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what continent can I find the country of Swazilan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 the pattern: 1, 5, 15, 30, 60, 120, 240 _____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Renaissance mea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x9+9= _____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a character from the show, The Off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on last years World Seri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and was Kurt Cobain i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it mean when you get a “turkey” in bowli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what continent are the Andes Mountain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rote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 Gats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NATO stand fo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best selling album of all ti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three types/brands of cere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a mupp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at = Huh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you pick the people of groups you cho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this game was like imperial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they are differ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(should have been) the strategy in the ga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begins to happen as the game continues on?  Is that accurate? Exampl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http://rds.yahoo.com/_ylt=A9iby4fwtDZGQmYAVVejzbkF;_ylu=X3oDMTBsMW5yM3VoBHNlYwNwcm9mBHZ0aWQDSTA2Nl84OA--/SIG=128h7faop/EXP=1178076784/**http%3A/www.hyperhelper.org/williams/imperialism2.jpg"/>
          <p:cNvPicPr/>
          <p:nvPr/>
        </p:nvPicPr>
        <p:blipFill>
          <a:blip r:embed="rId1"/>
          <a:stretch/>
        </p:blipFill>
        <p:spPr>
          <a:xfrm>
            <a:off x="685800" y="1752480"/>
            <a:ext cx="6684840" cy="368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What is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mperialism</a:t>
            </a: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domineering nation takes over another country politically, economically, and its military.  The dominated country becomes a colony to the imperial n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s behind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7621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emands/Raw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xury Goods/diamonds, g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markets for Industrial go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sion, military m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 strategic lo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9960" y="6095880"/>
            <a:ext cx="2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ces. . .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1143000"/>
            <a:ext cx="6096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: Racial Suprem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e the lives of natives (White Man’s Burd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us/Humanitari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hristians feel it is their calling to convert natives to the fa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id bring education and medicine to struggling reg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the natural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Forms of Imperialism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y: internal govt. lead by a foreign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orate: internal govt. lead by locals but under the control of a foreign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here of Influence: foreign power claims exclusive investment and trade ri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nomic Imperialism: a business controls an underdeveloped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1:57:18Z</dcterms:created>
  <dc:creator>Robert Kuenzi</dc:creator>
  <dc:description/>
  <dc:language>en-US</dc:language>
  <cp:lastModifiedBy>Kuenzi</cp:lastModifiedBy>
  <dcterms:modified xsi:type="dcterms:W3CDTF">2014-04-10T18:17:52Z</dcterms:modified>
  <cp:revision>78</cp:revision>
  <dc:subject/>
  <dc:title>Imperialism</dc:title>
</cp:coreProperties>
</file>